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41DE-8564-4313-BC68-E634A307C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769C-324B-4F17-AA63-92DB53C6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D5FF-2F94-41D3-9D64-BC55E347D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B9E1-E40B-47E9-BF19-F6C1774C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939C-366B-4DB2-828D-812D24DA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D38F-4D69-49BD-84F3-4DB546EC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E4FC-2F31-412E-A39A-562C39BF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1FC7-F20A-4D51-BA6D-B0CC5260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AEC6-A796-4394-9A61-DE2C03A1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A8D6-CA21-4F46-A594-7B3F016A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A1CD-9858-4B26-9130-9C733CCC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3422-56A5-4DB8-8747-947E611F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8A2D-CE04-4DB9-9DD8-BD0B1554F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"/>
              </a:rPr>
              <a:t>IRISH WATER 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WS-logo-4-colour" descr=""/>
          <p:cNvPicPr/>
          <p:nvPr/>
        </p:nvPicPr>
        <p:blipFill>
          <a:blip r:embed="rId2"/>
          <a:stretch/>
        </p:blipFill>
        <p:spPr>
          <a:xfrm>
            <a:off x="0" y="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Arial"/>
                <a:ea typeface="Arial"/>
              </a:rPr>
              <a:t>Statistical</a:t>
            </a:r>
            <a:r>
              <a:rPr b="0" lang="en-IE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44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WS maintains a comprehensive database of drowning incidents in Ire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gically in 2004 there were a total of 149 drown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 accid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 non-accid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undeterm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908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04920" y="1138320"/>
          <a:ext cx="8534160" cy="458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38320"/>
                    <a:ext cx="853416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6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00016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04920" y="1143000"/>
          <a:ext cx="8839080" cy="515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8839080" cy="51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6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00484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52280" y="1143000"/>
          <a:ext cx="8839440" cy="493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43000"/>
                    <a:ext cx="8839440" cy="49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6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8612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2280" y="1052640"/>
          <a:ext cx="8839440" cy="475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52640"/>
                    <a:ext cx="8839440" cy="47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6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00016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28600" y="1143000"/>
          <a:ext cx="8686800" cy="521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8686800" cy="52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6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9080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28600" y="1143000"/>
          <a:ext cx="8686800" cy="490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8686800" cy="49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6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019240" y="19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2280" y="1143000"/>
          <a:ext cx="8839440" cy="517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43000"/>
                    <a:ext cx="8839440" cy="51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6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0484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04920" y="1441440"/>
          <a:ext cx="8534160" cy="397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1440"/>
                    <a:ext cx="8534160" cy="39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6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9080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280" y="1422360"/>
          <a:ext cx="8839440" cy="401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22360"/>
                    <a:ext cx="8839440" cy="40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6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908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243080"/>
          <a:ext cx="8839440" cy="437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243080"/>
                    <a:ext cx="8839440" cy="43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6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01456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2392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2280" y="1141560"/>
          <a:ext cx="8839440" cy="457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41560"/>
                    <a:ext cx="8839440" cy="45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6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908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8600" y="1281240"/>
          <a:ext cx="8686800" cy="429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81240"/>
                    <a:ext cx="8686800" cy="42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6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7172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971720" y="2114640"/>
          <a:ext cx="5200560" cy="262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1720" y="2114640"/>
                    <a:ext cx="5200560" cy="26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6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00484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52280" y="1387440"/>
          <a:ext cx="8839440" cy="408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87440"/>
                    <a:ext cx="88394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6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99548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28600" y="1278000"/>
          <a:ext cx="8686800" cy="430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78000"/>
                    <a:ext cx="8686800" cy="43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6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15:37:32Z</dcterms:created>
  <dc:creator>Irish Water Safety</dc:creator>
  <dc:description/>
  <dc:language>en-US</dc:language>
  <cp:lastModifiedBy>Irish Water Safety</cp:lastModifiedBy>
  <dcterms:modified xsi:type="dcterms:W3CDTF">2005-12-13T16:19:46Z</dcterms:modified>
  <cp:revision>7</cp:revision>
  <dc:subject/>
  <dc:title>PowerPoint Presentation</dc:title>
</cp:coreProperties>
</file>