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7532-00AE-4476-AB0E-E9A5CBDA6C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B301-0E17-4983-BC17-960F5083DA4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2A28-BF37-4B07-B1A9-D87C823D1AF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585F-2E66-46E4-9EAA-6FFCB2B19E7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453B-BDDB-4ABD-8E5B-D8248528C8E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D4EF-9426-475C-B377-861C46A02A2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6CE8-9185-4AA3-97C6-F0778E88AFA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30B3-070F-4DAC-A6BA-CF4A1FF934A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9F67-2275-41B2-8666-79027090AF9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305E-7E48-4074-9565-D1D8B9C0E1C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6908-D656-473E-9C4B-1594BECFC7D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04F4-38FC-4783-8E8D-770270F5C74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E081-61A5-49AA-A0F0-B8DA80FE8FE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686C-FD1A-422B-91E0-9679424B9B4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9073-82F2-431E-9260-63493A76234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1A16-73CC-49C2-B39D-1DDC099005C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A794-F167-463B-B661-BC4CC8E70EC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B189-806A-4419-888A-88DE208FDF9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05E3-1063-43D2-A2C2-2C0F30C2A97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9B46-7088-4533-A7CE-6A6C670C665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B323-3FFC-4637-A722-8C0EF81DBBC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BE62-C18E-4530-80F5-B26703051AA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6463-9BC2-4282-905A-6A94F309CBF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D1AA-3E82-49FC-BDA4-350E742A18A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13FA-3B23-4CE7-AFFD-DE46454F1F1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3731-31F6-418A-B76A-536759AF8C9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DA67-4638-415A-8A37-35B5ABFE86D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55A4-20BA-455A-9D60-5F1CE112201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0821-D397-40DE-B419-EF7F12DC109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AD211-9B2E-4716-A122-0C6948B77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570A5-DB76-43B0-9B73-7DBAE693F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2232C-A7B4-4103-8D4D-6029E977E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AA3F7-A2F7-4ECB-AB55-B2B6E89A8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86A9D-CE8E-495E-873C-6C7855198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6F6E4-C495-4677-9995-CF4FEBFD8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63EF0-EAD1-49FA-A003-816711B6B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64BFE-1D07-46B7-A1AE-6115798C0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E0338-F9BF-48B3-9BA2-21FAE840C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C5387-8435-4A28-93E1-4D6309144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1B999-9F17-4FE8-97A2-6D394340E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5BBF9-4968-4C7D-A4DD-8D84520B0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69C2B-288F-4B9B-91B1-F4BD0A745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B0E84-0F0D-436C-A407-557DC28BD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7EC88-BA8B-4F19-91B5-436FFB452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81FFE-3BB7-4EFA-9D52-7F4D0E23A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9366C-3AA4-412A-B227-B3242A565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0A07B-1BD1-42E5-9A4B-067D74AED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7213E-8484-4156-9A34-B06CA59F3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C3FE8-6633-43AA-8B95-FA25DD41B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087B-B20F-4731-AE4F-2B09B63A9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A899-1F01-46CF-B939-4B296DE51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5A780-7E5E-43E3-919A-8CCBC29F5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9C772-7960-4235-9712-5AD047AC3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ducation Commission IW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A277-FF65-4A76-A607-FEACD872BD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 name="Picture 7" descr="IWS Logo General use Colour.jpg"/>
          <p:cNvPicPr/>
          <p:nvPr/>
        </p:nvPicPr>
        <p:blipFill>
          <a:blip r:embed="rId3"/>
          <a:stretch/>
        </p:blipFill>
        <p:spPr>
          <a:xfrm>
            <a:off x="0" y="0"/>
            <a:ext cx="1504800" cy="15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Education Commission IWS</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C783-6BEF-4723-9C89-B7FB20D8FD8C}"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3276720" y="6248520"/>
            <a:ext cx="338292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Education Commission IWS – Issued 2012</a:t>
            </a:r>
            <a:endParaRPr b="0" lang="en-US" sz="1400" spc="-1" strike="noStrike">
              <a:solidFill>
                <a:srgbClr val="ffffff"/>
              </a:solidFill>
              <a:latin typeface="Times New Roman"/>
            </a:endParaRPr>
          </a:p>
        </p:txBody>
      </p:sp>
      <p:sp>
        <p:nvSpPr>
          <p:cNvPr id="94" name="Rectangle 7"/>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7DCD-3D9F-477F-BA21-E9D3EDAC1CE5}" type="slidenum">
              <a:rPr b="0" lang="en-GB"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95" name="PlaceHolder 1"/>
          <p:cNvSpPr>
            <a:spLocks noGrp="1"/>
          </p:cNvSpPr>
          <p:nvPr>
            <p:ph type="title"/>
          </p:nvPr>
        </p:nvSpPr>
        <p:spPr>
          <a:xfrm>
            <a:off x="5076360" y="181440"/>
            <a:ext cx="3738600" cy="5119200"/>
          </a:xfrm>
          <a:prstGeom prst="rect">
            <a:avLst/>
          </a:prstGeom>
          <a:noFill/>
          <a:ln w="0">
            <a:noFill/>
          </a:ln>
          <a:effectLst>
            <a:outerShdw dist="36147" dir="2700000" blurRad="0" rotWithShape="0">
              <a:srgbClr val="80808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600" spc="-1" strike="noStrike">
                <a:solidFill>
                  <a:srgbClr val="99ccff"/>
                </a:solidFill>
                <a:latin typeface="Arial"/>
              </a:rPr>
              <a:t>Code of Ethics A</a:t>
            </a:r>
            <a:r>
              <a:rPr b="1" i="1" lang="en-IE" sz="6600" spc="-1" strike="noStrike">
                <a:solidFill>
                  <a:srgbClr val="99ccff"/>
                </a:solidFill>
                <a:latin typeface="Arial"/>
              </a:rPr>
              <a:t>nd Good Practice</a:t>
            </a:r>
            <a:endParaRPr b="0" lang="en-US" sz="6600" spc="-1" strike="noStrike">
              <a:solidFill>
                <a:srgbClr val="ccffff"/>
              </a:solidFill>
              <a:latin typeface="Tahoma"/>
            </a:endParaRPr>
          </a:p>
        </p:txBody>
      </p:sp>
      <p:sp>
        <p:nvSpPr>
          <p:cNvPr id="96" name="PlaceHolder 2"/>
          <p:cNvSpPr>
            <a:spLocks noGrp="1"/>
          </p:cNvSpPr>
          <p:nvPr>
            <p:ph type="subTitle"/>
          </p:nvPr>
        </p:nvSpPr>
        <p:spPr>
          <a:xfrm>
            <a:off x="755640" y="4941720"/>
            <a:ext cx="6872400" cy="865440"/>
          </a:xfrm>
          <a:prstGeom prst="rect">
            <a:avLst/>
          </a:prstGeom>
          <a:noFill/>
          <a:ln w="0">
            <a:noFill/>
          </a:ln>
          <a:effectLst>
            <a:outerShdw dist="36147" dir="2700000" blurRad="0" rotWithShape="0">
              <a:srgbClr val="808080">
                <a:alpha val="50000"/>
              </a:srgbClr>
            </a:outerShdw>
          </a:effectLst>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Picture 6" descr="IWS Logo General use Colour.jpg"/>
          <p:cNvPicPr/>
          <p:nvPr/>
        </p:nvPicPr>
        <p:blipFill>
          <a:blip r:embed="rId1"/>
          <a:stretch/>
        </p:blipFill>
        <p:spPr>
          <a:xfrm>
            <a:off x="324000" y="692280"/>
            <a:ext cx="4464000" cy="446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57B7-901B-44A1-A91D-F379B983D70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ntered by choic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pen, Positive and Encourag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ually agreed goal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spectful of children’s right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 ethical code of conduct</a:t>
            </a:r>
            <a:endParaRPr b="0" lang="en-US" sz="3200" spc="-1" strike="noStrike">
              <a:solidFill>
                <a:srgbClr val="ffffff"/>
              </a:solidFill>
              <a:latin typeface="Tahoma"/>
            </a:endParaRPr>
          </a:p>
        </p:txBody>
      </p:sp>
      <p:sp>
        <p:nvSpPr>
          <p:cNvPr id="135" name="PlaceHolder 2"/>
          <p:cNvSpPr>
            <a:spLocks noGrp="1"/>
          </p:cNvSpPr>
          <p:nvPr>
            <p:ph type="title"/>
          </p:nvPr>
        </p:nvSpPr>
        <p:spPr>
          <a:xfrm>
            <a:off x="1692360" y="456840"/>
            <a:ext cx="6308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ff"/>
                </a:solidFill>
                <a:latin typeface="Tahoma"/>
              </a:rPr>
              <a:t>Adult Child Relationships in Sport</a:t>
            </a:r>
            <a:endParaRPr b="0" lang="en-US" sz="40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3693-2249-48EC-88A5-0031EA8EE29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dult Child Relationships in Sport</a:t>
            </a:r>
            <a:endParaRPr b="0" lang="en-US" sz="4400" spc="-1" strike="noStrike">
              <a:solidFill>
                <a:srgbClr val="ccffff"/>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tection of childre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ree from all types of abu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velopmental stages of chil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njoyment and Progre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overned by Code of Ethic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F7A0-CA7E-4D44-BD5F-64140FA1E79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2410920" y="456840"/>
            <a:ext cx="5589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Quality Leadership</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ducation and Training</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mplementation of Code</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pecific Education in Child Protect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lection and Screening</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petent and Qualified</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ositive , Enthusiastic , Cheerful</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inciples of Fair Play</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ti-Bullying Policy</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E5CD-D1C1-40F4-8D5F-E33005CCDC62}"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2195640" y="456840"/>
            <a:ext cx="5805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ood Practice</a:t>
            </a:r>
            <a:endParaRPr b="0" lang="en-US" sz="44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cruitment and Selection Policy</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eparation and Supervision</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Guidelines on Supervision</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haviour of Leader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lanced approach to winning</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upervision on away trip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upervision in changing room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iscipline-Breaches and Appeals</a:t>
            </a:r>
            <a:endParaRPr b="0" lang="en-US" sz="2800" spc="-1" strike="noStrike">
              <a:solidFill>
                <a:srgbClr val="ffffff"/>
              </a:solidFill>
              <a:latin typeface="Tahoma"/>
            </a:endParaRPr>
          </a:p>
          <a:p>
            <a:pPr marL="301680" indent="-3016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hotographic and Filming Equipment</a:t>
            </a:r>
            <a:endParaRPr b="0" lang="en-US" sz="2800" spc="-1" strike="noStrike">
              <a:solidFill>
                <a:srgbClr val="ffffff"/>
              </a:solidFill>
              <a:latin typeface="Tahom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E6B4-87DD-4EA7-8A20-A5B9CEE0B7FC}"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Child Protection</a:t>
            </a:r>
            <a:endParaRPr b="0" lang="en-US" sz="4400" spc="-1" strike="noStrike">
              <a:solidFill>
                <a:srgbClr val="ccffff"/>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ability to recognise child abuse depends as much on a persons willingness to accept the possibility as it does on their knowledge and inform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EEFC-0430-4E6A-94A5-E5EBC06CF63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Disclosures</a:t>
            </a:r>
            <a:endParaRPr b="0" lang="en-US" sz="4400" spc="-1" strike="noStrike">
              <a:solidFill>
                <a:srgbClr val="ccffff"/>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young person discloses to a member that he/she is being abused</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young person discloses to a third party who in turn tells the member</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may overhear other young people discussing their concerns about a particular person</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witnesses abuse</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egation or report is made to the member</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8900-8053-4531-A0C9-C4A3257510F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Types of Abuse</a:t>
            </a: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eglect; omission-different deprivations-among them safe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motional Abuse; need for affection, approval, consistency and secur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hysical Abu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xual Ab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CBD2-02C3-455A-889D-73071FAF532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Neglect</a:t>
            </a:r>
            <a:endParaRPr b="0" lang="en-US" sz="4400" spc="-1" strike="noStrike">
              <a:solidFill>
                <a:srgbClr val="ccffff"/>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uffers harm or impairment of developmen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prived of food, warmth, clothing, hygiene, intellectual stimulation,supervision and safety, affection from adults or medical car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ll treatment or impairment of healt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A403-0987-4677-B0D2-9B11DB4BF7A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Emotional Abuse</a:t>
            </a:r>
            <a:endParaRPr b="0" lang="en-US" sz="4400" spc="-1" strike="noStrike">
              <a:solidFill>
                <a:srgbClr val="ccffff"/>
              </a:solidFill>
              <a:latin typeface="Tahoma"/>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ersistent criticism, sarcasm, hostility or blaming, over-harsh disciplinary measures or exposure to violenc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busive interactions become typical of the relationship</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10A8-E8E8-4A23-A8DE-CE18CA46098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0"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hysical and Sexual Abuse</a:t>
            </a:r>
            <a:endParaRPr b="0" lang="en-US" sz="44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xual------child is used by another person for his or her gratification or sexual arousal or that of other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hysical----non-accidental injury that causes significant harm to a chi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Education Commission IWS</a:t>
            </a:r>
            <a:endParaRPr b="0" lang="en-US" sz="1400" spc="-1" strike="noStrike">
              <a:solidFill>
                <a:srgbClr val="ffffff"/>
              </a:solidFill>
              <a:latin typeface="Times New Roman"/>
            </a:endParaRPr>
          </a:p>
        </p:txBody>
      </p:sp>
      <p:sp>
        <p:nvSpPr>
          <p:cNvPr id="99" name="Rectangle 7"/>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46F3-DA48-4E72-A43E-D1D623551635}" type="slidenum">
              <a:rPr b="0" lang="en-GB"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subTitle"/>
          </p:nvPr>
        </p:nvSpPr>
        <p:spPr>
          <a:xfrm>
            <a:off x="3564000" y="692280"/>
            <a:ext cx="5184720" cy="424944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National Guidelines for the Protection and Welfare of Children</a:t>
            </a: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Issued by Dept. Health &amp; Children 2011</a:t>
            </a:r>
            <a:endParaRPr b="0" lang="en-US" sz="3600" spc="-1" strike="noStrike">
              <a:solidFill>
                <a:srgbClr val="ffffff"/>
              </a:solidFill>
              <a:latin typeface="Tahoma"/>
            </a:endParaRPr>
          </a:p>
        </p:txBody>
      </p:sp>
      <p:pic>
        <p:nvPicPr>
          <p:cNvPr id="101" name="Picture 4" descr="CF cover1"/>
          <p:cNvPicPr/>
          <p:nvPr/>
        </p:nvPicPr>
        <p:blipFill>
          <a:blip r:embed="rId1"/>
          <a:stretch/>
        </p:blipFill>
        <p:spPr>
          <a:xfrm>
            <a:off x="324000" y="836640"/>
            <a:ext cx="3176280" cy="4105080"/>
          </a:xfrm>
          <a:prstGeom prst="rect">
            <a:avLst/>
          </a:prstGeom>
          <a:ln w="0">
            <a:noFill/>
          </a:ln>
          <a:effectLst>
            <a:outerShdw dist="17819" dir="2700000" blurRad="0" rotWithShape="0">
              <a:srgbClr val="000066"/>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63AB-0C52-44E0-B287-71BF9A72D85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4"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uidelines for Recognition</a:t>
            </a:r>
            <a:endParaRPr b="0" lang="en-US" sz="4400" spc="-1" strike="noStrike">
              <a:solidFill>
                <a:srgbClr val="ccffff"/>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ree stages of recogniti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Considering the Possibil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2 Looking for sign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Recording of Informati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me signs are more indicative than oth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DFCB-C836-4BA7-B983-5B48147175B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Reporting</a:t>
            </a:r>
            <a:endParaRPr b="0" lang="en-US" sz="4400" spc="-1" strike="noStrike">
              <a:solidFill>
                <a:srgbClr val="ccffff"/>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safety of the young person must take priority</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ports must be made without delay</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hildren or parents should not be interviewed in detail</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o undertakings of secrecy can be given</a:t>
            </a:r>
            <a:endParaRPr b="0" lang="en-US" sz="3200" spc="-1" strike="noStrike">
              <a:solidFill>
                <a:srgbClr val="ffffff"/>
              </a:solidFill>
              <a:latin typeface="Tahoma"/>
            </a:endParaRPr>
          </a:p>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iving information for the protection of the child is not a breach of confidentiality</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0E9F-C45F-49DE-9BD8-CF9E03C0E59A}"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1979640" y="456840"/>
            <a:ext cx="6021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f a member receives an allegation or suspects a child is being abused, the member reports the matter to the Senior Colleague.</a:t>
            </a:r>
            <a:endParaRPr b="0" lang="en-US" sz="3200" spc="-1" strike="noStrike">
              <a:solidFill>
                <a:srgbClr val="ffffff"/>
              </a:solidFill>
              <a:latin typeface="Tahoma"/>
            </a:endParaRPr>
          </a:p>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Senior Colleague must advise the </a:t>
            </a:r>
            <a:r>
              <a:rPr b="0" lang="en-IE" sz="3200" spc="-1" strike="noStrike">
                <a:solidFill>
                  <a:srgbClr val="ffffff"/>
                </a:solidFill>
                <a:latin typeface="Tahoma"/>
              </a:rPr>
              <a:t>Designated</a:t>
            </a:r>
            <a:r>
              <a:rPr b="0" lang="en-GB" sz="3200" spc="-1" strike="noStrike">
                <a:solidFill>
                  <a:srgbClr val="ffffff"/>
                </a:solidFill>
                <a:latin typeface="Tahoma"/>
              </a:rPr>
              <a:t> Liaison </a:t>
            </a:r>
            <a:r>
              <a:rPr b="0" lang="en-IE" sz="3200" spc="-1" strike="noStrike">
                <a:solidFill>
                  <a:srgbClr val="ffffff"/>
                </a:solidFill>
                <a:latin typeface="Tahoma"/>
              </a:rPr>
              <a:t>Person</a:t>
            </a:r>
            <a:r>
              <a:rPr b="0" lang="en-GB" sz="3200" spc="-1" strike="noStrike">
                <a:solidFill>
                  <a:srgbClr val="ffffff"/>
                </a:solidFill>
                <a:latin typeface="Tahoma"/>
              </a:rPr>
              <a:t>. The </a:t>
            </a:r>
            <a:r>
              <a:rPr b="0" lang="en-IE" sz="3200" spc="-1" strike="noStrike">
                <a:solidFill>
                  <a:srgbClr val="ffffff"/>
                </a:solidFill>
                <a:latin typeface="Tahoma"/>
              </a:rPr>
              <a:t>DLP</a:t>
            </a:r>
            <a:r>
              <a:rPr b="0" lang="en-GB" sz="3200" spc="-1" strike="noStrike">
                <a:solidFill>
                  <a:srgbClr val="ffffff"/>
                </a:solidFill>
                <a:latin typeface="Tahoma"/>
              </a:rPr>
              <a:t> will be an officer of the area committee</a:t>
            </a:r>
            <a:endParaRPr b="0" lang="en-US" sz="3200" spc="-1" strike="noStrike">
              <a:solidFill>
                <a:srgbClr val="ffffff"/>
              </a:solidFill>
              <a:latin typeface="Tahoma"/>
            </a:endParaRPr>
          </a:p>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legation must be recorded by the </a:t>
            </a:r>
            <a:r>
              <a:rPr b="0" lang="en-IE" sz="3200" spc="-1" strike="noStrike">
                <a:solidFill>
                  <a:srgbClr val="ffffff"/>
                </a:solidFill>
                <a:latin typeface="Tahoma"/>
              </a:rPr>
              <a:t>DL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356A-D7FF-411A-9241-D974279A24A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t is essential that the matter be treated in the strictest confidence and not discussed except among the parties involved</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role of the Senior Colleague is</a:t>
            </a:r>
            <a:r>
              <a:rPr b="0" lang="en-GB" sz="2800" spc="-1" strike="noStrike" u="sng">
                <a:solidFill>
                  <a:srgbClr val="ffffff"/>
                </a:solidFill>
                <a:uFillTx/>
                <a:latin typeface="Tahoma"/>
              </a:rPr>
              <a:t> not </a:t>
            </a:r>
            <a:r>
              <a:rPr b="0" lang="en-GB" sz="2800" spc="-1" strike="noStrike">
                <a:solidFill>
                  <a:srgbClr val="ffffff"/>
                </a:solidFill>
                <a:latin typeface="Tahoma"/>
              </a:rPr>
              <a:t>to make enquiries of the parents or to take over the role of the Health Board</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EO of IWS should be informed and briefed by the officers on the Area committe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0B19-0428-40D6-A2E4-5466F16E266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0"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uspension of the member will only be done after meeting of Area Officers,CEO and the National </a:t>
            </a:r>
            <a:r>
              <a:rPr b="0" lang="en-IE" sz="2800" spc="-1" strike="noStrike">
                <a:solidFill>
                  <a:srgbClr val="ffffff"/>
                </a:solidFill>
                <a:latin typeface="Tahoma"/>
              </a:rPr>
              <a:t>DLP</a:t>
            </a:r>
            <a:endParaRPr b="0" lang="en-US" sz="2800" spc="-1" strike="noStrike">
              <a:solidFill>
                <a:srgbClr val="ffffff"/>
              </a:solidFill>
              <a:latin typeface="Tahoma"/>
            </a:endParaRPr>
          </a:p>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will be informed in writing of his/her suspension</a:t>
            </a:r>
            <a:endParaRPr b="0" lang="en-US" sz="2800" spc="-1" strike="noStrike">
              <a:solidFill>
                <a:srgbClr val="ffffff"/>
              </a:solidFill>
              <a:latin typeface="Tahoma"/>
            </a:endParaRPr>
          </a:p>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mber will meet the Officers and made aware of allegation against him/her</a:t>
            </a:r>
            <a:endParaRPr b="0" lang="en-US" sz="2800" spc="-1" strike="noStrike">
              <a:solidFill>
                <a:srgbClr val="ffffff"/>
              </a:solidFill>
              <a:latin typeface="Tahoma"/>
            </a:endParaRPr>
          </a:p>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son should be informed that this is not an accusation and the procedures being undertaken are in accordance with statutory  guidelin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525A-4FA7-4C91-AB1B-1A2A75B8ECCB}"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cedure</a:t>
            </a:r>
            <a:endParaRPr b="0" lang="en-US" sz="4400" spc="-1" strike="noStrike">
              <a:solidFill>
                <a:srgbClr val="ccffff"/>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 present a formal response to allegations</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ame of child and precise details of abuse will be with held</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c.4.7 of the Rules and Regulations of Area Water Safety Committees shall govern termination of membership</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egations must be reported to the Health Board or the Garda Siocha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63DC-DEC4-4D62-9D81-02F2957BBC6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llegations of Abuse Against Volunteers</a:t>
            </a:r>
            <a:endParaRPr b="0" lang="en-US" sz="4400" spc="-1" strike="noStrike">
              <a:solidFill>
                <a:srgbClr val="ccffff"/>
              </a:solidFill>
              <a:latin typeface="Tahoma"/>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wo procedures</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The reporting procedure in respect of the child</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2 The procedure for dealing with the person.</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rimary goal is to protect the child while taking care to treat the adult fairly</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 members must be aware of line management reporting procedures</a:t>
            </a:r>
            <a:endParaRPr b="0" lang="en-US" sz="2800" spc="-1" strike="noStrike">
              <a:solidFill>
                <a:srgbClr val="ffffff"/>
              </a:solidFill>
              <a:latin typeface="Tahoma"/>
            </a:endParaRPr>
          </a:p>
          <a:p>
            <a:pPr marL="332640" indent="-33264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egations should be assessed promptly and carefully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041D-CB7C-444B-AF7E-4AA78963D82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2" name="PlaceHolder 1"/>
          <p:cNvSpPr>
            <a:spLocks noGrp="1"/>
          </p:cNvSpPr>
          <p:nvPr>
            <p:ph type="title"/>
          </p:nvPr>
        </p:nvSpPr>
        <p:spPr>
          <a:xfrm>
            <a:off x="1692360" y="456840"/>
            <a:ext cx="6308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ff"/>
                </a:solidFill>
                <a:latin typeface="Tahoma"/>
              </a:rPr>
              <a:t>Protections for persons Reporting Child Abuse Act 1998</a:t>
            </a:r>
            <a:endParaRPr b="0" lang="en-US" sz="2800" spc="-1" strike="noStrike">
              <a:solidFill>
                <a:srgbClr val="ccffff"/>
              </a:solidFill>
              <a:latin typeface="Tahoma"/>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vision of immunity from civil liability to any person who reports child abuse “reasonably and in good faith” to designated officers of the Health boards of Gardai</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eation of a new offence of false repor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64E3-DCEA-41EF-879F-F6F8EFA74A6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1618920" y="456840"/>
            <a:ext cx="638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rotections</a:t>
            </a:r>
            <a:endParaRPr b="0" lang="en-US" sz="4400" spc="-1" strike="noStrike">
              <a:solidFill>
                <a:srgbClr val="ccffff"/>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erson reporting not liable in damages   for reporting in his opinion that a child has been or is being assaulted, ill treated, neglected or sexually abus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child’s health, development or welfare has been or is being avoidably impaired or neglec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3D98-097F-4A7F-97D5-8555CE69EC1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Response to a child Reporting Abuse</a:t>
            </a:r>
            <a:endParaRPr b="0" lang="en-US" sz="4400" spc="-1" strike="noStrike">
              <a:solidFill>
                <a:srgbClr val="ccffff"/>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al with accusation in sensitive competent way-let child tell story</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 calm and compassiona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xperience of telling should be positive on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n judgmental</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assured right to tell--no false promise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questioned-no leading question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Given indication of what is happening nex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76FE-0323-4C91-BF60-87ADAC297C0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4" name="Picture 2" descr="FontCover"/>
          <p:cNvPicPr/>
          <p:nvPr/>
        </p:nvPicPr>
        <p:blipFill>
          <a:blip r:embed="rId1"/>
          <a:stretch/>
        </p:blipFill>
        <p:spPr>
          <a:xfrm>
            <a:off x="2195640" y="1557360"/>
            <a:ext cx="4456080" cy="5300640"/>
          </a:xfrm>
          <a:prstGeom prst="rect">
            <a:avLst/>
          </a:prstGeom>
          <a:ln w="76320">
            <a:solidFill>
              <a:srgbClr val="000000"/>
            </a:solidFill>
            <a:miter/>
          </a:ln>
        </p:spPr>
      </p:pic>
      <p:pic>
        <p:nvPicPr>
          <p:cNvPr id="105" name="Picture 3" descr="isclogo"/>
          <p:cNvPicPr/>
          <p:nvPr/>
        </p:nvPicPr>
        <p:blipFill>
          <a:blip r:embed="rId2"/>
          <a:stretch/>
        </p:blipFill>
        <p:spPr>
          <a:xfrm>
            <a:off x="5508720" y="4653000"/>
            <a:ext cx="930240" cy="1008000"/>
          </a:xfrm>
          <a:prstGeom prst="rect">
            <a:avLst/>
          </a:prstGeom>
          <a:ln w="0">
            <a:noFill/>
          </a:ln>
        </p:spPr>
      </p:pic>
      <p:pic>
        <p:nvPicPr>
          <p:cNvPr id="106" name="Picture 4" descr="http://www.sportni.org/images/scnismall2.jpg"/>
          <p:cNvPicPr/>
          <p:nvPr/>
        </p:nvPicPr>
        <p:blipFill>
          <a:blip r:embed="rId3"/>
          <a:stretch/>
        </p:blipFill>
        <p:spPr>
          <a:xfrm>
            <a:off x="2556000" y="5157720"/>
            <a:ext cx="792000" cy="644760"/>
          </a:xfrm>
          <a:prstGeom prst="rect">
            <a:avLst/>
          </a:prstGeom>
          <a:ln w="0">
            <a:noFill/>
          </a:ln>
        </p:spPr>
      </p:pic>
      <p:sp>
        <p:nvSpPr>
          <p:cNvPr id="107" name="PlaceHolder 1"/>
          <p:cNvSpPr>
            <a:spLocks noGrp="1"/>
          </p:cNvSpPr>
          <p:nvPr>
            <p:ph type="title"/>
          </p:nvPr>
        </p:nvSpPr>
        <p:spPr>
          <a:xfrm>
            <a:off x="1834920" y="456840"/>
            <a:ext cx="6165720" cy="81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ccffff"/>
                </a:solidFill>
                <a:latin typeface="Tahoma"/>
              </a:rPr>
              <a:t>The Irish Sports Council Guidelines</a:t>
            </a:r>
            <a:endParaRPr b="0" lang="en-US" sz="40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2374-DC7A-4A35-ABB5-0B19B23C47B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Response</a:t>
            </a:r>
            <a:endParaRPr b="0" lang="en-US" sz="4400" spc="-1" strike="noStrike">
              <a:solidFill>
                <a:srgbClr val="ccffff"/>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tailed account of what child said should be writte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etailed account of the steps must also be kep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ents informed if appropria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453DF-C0FA-4AF1-8D06-1241E4B97C0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2050920" y="456840"/>
            <a:ext cx="5950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Common Difficulties</a:t>
            </a:r>
            <a:endParaRPr b="0" lang="en-US" sz="4400" spc="-1" strike="noStrike">
              <a:solidFill>
                <a:srgbClr val="ccffff"/>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isclosure is made and then withdrawn</a:t>
            </a:r>
            <a:endParaRPr b="0" lang="en-US" sz="3200" spc="-1" strike="noStrike">
              <a:solidFill>
                <a:srgbClr val="ffffff"/>
              </a:solidFill>
              <a:latin typeface="Tahoma"/>
            </a:endParaRPr>
          </a:p>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isclosure is made and secrecy is expected</a:t>
            </a:r>
            <a:endParaRPr b="0" lang="en-US" sz="3200" spc="-1" strike="noStrike">
              <a:solidFill>
                <a:srgbClr val="ffffff"/>
              </a:solidFill>
              <a:latin typeface="Tahoma"/>
            </a:endParaRPr>
          </a:p>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ng person may threaten suicide if report is passed on</a:t>
            </a:r>
            <a:endParaRPr b="0" lang="en-US" sz="3200" spc="-1" strike="noStrike">
              <a:solidFill>
                <a:srgbClr val="ffffff"/>
              </a:solidFill>
              <a:latin typeface="Tahoma"/>
            </a:endParaRPr>
          </a:p>
          <a:p>
            <a:pPr marL="329040" indent="-32904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ng person will often seek to protect his/her abus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17EA-F336-4D9D-AA3B-4F90D5413B6D}"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2"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Summary of Response</a:t>
            </a:r>
            <a:endParaRPr b="0" lang="en-US" sz="4400" spc="-1" strike="noStrike">
              <a:solidFill>
                <a:srgbClr val="ccffff"/>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mber to Supervising Instructo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upervising Instructor to </a:t>
            </a:r>
            <a:r>
              <a:rPr b="0" lang="en-IE" sz="3200" spc="-1" strike="noStrike">
                <a:solidFill>
                  <a:srgbClr val="ffffff"/>
                </a:solidFill>
                <a:latin typeface="Tahoma"/>
              </a:rPr>
              <a:t>DLP</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DLP</a:t>
            </a:r>
            <a:r>
              <a:rPr b="0" lang="en-GB" sz="3200" spc="-1" strike="noStrike">
                <a:solidFill>
                  <a:srgbClr val="ffffff"/>
                </a:solidFill>
                <a:latin typeface="Tahoma"/>
              </a:rPr>
              <a:t> to Area Officers and National </a:t>
            </a:r>
            <a:r>
              <a:rPr b="0" lang="en-IE" sz="3200" spc="-1" strike="noStrike">
                <a:solidFill>
                  <a:srgbClr val="ffffff"/>
                </a:solidFill>
                <a:latin typeface="Tahoma"/>
              </a:rPr>
              <a:t>DLP</a:t>
            </a:r>
            <a:r>
              <a:rPr b="0" lang="en-GB" sz="3200" spc="-1" strike="noStrike">
                <a:solidFill>
                  <a:srgbClr val="ffffff"/>
                </a:solidFill>
                <a:latin typeface="Tahoma"/>
              </a:rPr>
              <a:t> and CEO</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O to Health Board and Alleged Abuse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leged Abuser meets CEO and Area Officer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57DB-EC68-4F70-8C29-B7473B030FA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6" name="Rectangle 2"/>
          <p:cNvSpPr/>
          <p:nvPr/>
        </p:nvSpPr>
        <p:spPr>
          <a:xfrm>
            <a:off x="0" y="476280"/>
            <a:ext cx="9144000" cy="13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66"/>
                </a:solidFill>
                <a:latin typeface="Verdana"/>
                <a:ea typeface="Times New Roman"/>
              </a:rPr>
              <a:t>                   </a:t>
            </a:r>
            <a:r>
              <a:rPr b="1" lang="en-GB" sz="2700" spc="-1" strike="noStrike">
                <a:solidFill>
                  <a:srgbClr val="ff0066"/>
                </a:solidFill>
                <a:latin typeface="Verdana"/>
                <a:ea typeface="Times New Roman"/>
              </a:rPr>
              <a:t>Reporting Chain</a:t>
            </a:r>
            <a:endParaRPr b="0" lang="en-US" sz="2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80"/>
                </a:solidFill>
                <a:uFillTx/>
                <a:latin typeface="Verdan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Verdan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Verdan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227" name="Object 4"/>
          <p:cNvGraphicFramePr/>
          <p:nvPr/>
        </p:nvGraphicFramePr>
        <p:xfrm>
          <a:off x="1692360" y="1557360"/>
          <a:ext cx="5914800" cy="4514760"/>
        </p:xfrm>
        <a:graphic>
          <a:graphicData uri="http://schemas.openxmlformats.org/presentationml/2006/ole">
            <p:oleObj r:id="rId1" spid="">
              <p:embed/>
              <p:pic>
                <p:nvPicPr>
                  <p:cNvPr id="228" name="Object 4" descr=""/>
                  <p:cNvPicPr/>
                  <p:nvPr/>
                </p:nvPicPr>
                <p:blipFill>
                  <a:blip r:embed="rId2"/>
                  <a:stretch/>
                </p:blipFill>
                <p:spPr>
                  <a:xfrm>
                    <a:off x="1692360" y="1557360"/>
                    <a:ext cx="5914800" cy="45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2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C4E9-ED34-449D-BBF1-1AB16B18268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1834920" y="456840"/>
            <a:ext cx="6165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ffff"/>
                </a:solidFill>
                <a:latin typeface="Tahoma"/>
              </a:rPr>
              <a:t>Designated Liaison Person</a:t>
            </a:r>
            <a:endParaRPr b="0" lang="en-US" sz="4400" spc="-1" strike="noStrike">
              <a:solidFill>
                <a:srgbClr val="ccffff"/>
              </a:solidFill>
              <a:latin typeface="Tahoma"/>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promote awareness of Code of Ethic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influence policy and practic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facilitate communicatio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provide an accessible resourc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o act as an advisor</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duct research</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hould receive train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7FB8-EFE0-4A9A-B897-68EC3C61250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1547280" y="456840"/>
            <a:ext cx="7272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Key Legislative Provisions</a:t>
            </a:r>
            <a:endParaRPr b="0" lang="en-US" sz="4400" spc="-1" strike="noStrike">
              <a:solidFill>
                <a:srgbClr val="ccffff"/>
              </a:solidFill>
              <a:latin typeface="Tahoma"/>
            </a:endParaRPr>
          </a:p>
        </p:txBody>
      </p:sp>
      <p:sp>
        <p:nvSpPr>
          <p:cNvPr id="111" name="PlaceHolder 2"/>
          <p:cNvSpPr>
            <a:spLocks noGrp="1"/>
          </p:cNvSpPr>
          <p:nvPr>
            <p:ph/>
          </p:nvPr>
        </p:nvSpPr>
        <p:spPr>
          <a:xfrm>
            <a:off x="250920" y="2060640"/>
            <a:ext cx="8353440" cy="4114800"/>
          </a:xfrm>
          <a:prstGeom prst="rect">
            <a:avLst/>
          </a:prstGeom>
          <a:noFill/>
          <a:ln w="0">
            <a:noFill/>
          </a:ln>
        </p:spPr>
        <p:txBody>
          <a:bodyPr anchor="t">
            <a:normAutofit fontScale="92000"/>
          </a:bodyPr>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hildren Act 2001</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hild Care Act 1991</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riminal Justice Act 2006</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omestic Violence Act 1996</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rotection for Persons Reporting Child Abust Act 1998</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ata Protection Acts 1988 and 2003</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ducation Act 1998</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ducation (Welfare) Act 2000</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Non-Fatal Offences against the Person Act 1997</a:t>
            </a:r>
            <a:endParaRPr b="0" lang="en-US" sz="2600" spc="-1" strike="noStrike">
              <a:solidFill>
                <a:srgbClr val="ffffff"/>
              </a:solidFill>
              <a:latin typeface="Tahoma"/>
            </a:endParaRPr>
          </a:p>
          <a:p>
            <a:pPr marL="315360" indent="-31536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reedom of Information Acts 1997 and 2003</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C813-2662-4E19-9694-B9C71DD4F4E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2123640" y="456840"/>
            <a:ext cx="5877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uidelines</a:t>
            </a:r>
            <a:endParaRPr b="0" lang="en-US" sz="4400" spc="-1" strike="noStrike">
              <a:solidFill>
                <a:srgbClr val="ccffff"/>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l organisations, whether statutory or voluntary, have an overall corporate responsibility to safeguard childre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welfare of the child is the first and paramount consideration</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rganisations may be legally responsible for their failure to provide adequate care and safeguards for childr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1E62-6CE6-4A69-8E61-A03A211FB0AC}"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1907640" y="456840"/>
            <a:ext cx="609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Guidelines 2</a:t>
            </a:r>
            <a:endParaRPr b="0" lang="en-US" sz="4400" spc="-1" strike="noStrike">
              <a:solidFill>
                <a:srgbClr val="ccffff"/>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afe and clearly defined methods of selecting staff and volunteer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ffective procedures for the reporting and management of child protection concern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signated staff member /volunteer to act as a liaison with outside agencies and as a resource person to any volunteer who has child protection concer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3EE8-EEBD-4F14-833E-24F50A57083A}"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2268360" y="456840"/>
            <a:ext cx="57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Purpose of Guidelines</a:t>
            </a:r>
            <a:endParaRPr b="0" lang="en-US" sz="4400" spc="-1" strike="noStrike">
              <a:solidFill>
                <a:srgbClr val="ccffff"/>
              </a:solidFill>
              <a:latin typeface="Tahom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ovide members with basic information on the nature of child abus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form members on the procedures they should follow</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ise members’ awareness of the necessity for good practice so as to help to ensure the protection of young people from abuse and protection of members against false accusations of abus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4D2D-A9ED-45FF-AABD-0F5229AACB5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1763640" y="456840"/>
            <a:ext cx="6237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ffff"/>
                </a:solidFill>
                <a:latin typeface="Tahoma"/>
              </a:rPr>
              <a:t>Core Values For IWS members</a:t>
            </a:r>
            <a:endParaRPr b="0" lang="en-US" sz="4400" spc="-1" strike="noStrike">
              <a:solidFill>
                <a:srgbClr val="ccffff"/>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Quality of Instruct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mmitment</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ntinual Professional Development</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Equality and Inclus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llegiality</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ollaborat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Respect</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Care and Co-Oper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Education Commission IWS</a:t>
            </a:r>
            <a:endParaRPr b="0" lang="en-US" sz="1400" spc="-1" strike="noStrike">
              <a:solidFill>
                <a:srgbClr val="ffffff"/>
              </a:solidFill>
              <a:latin typeface="Times New Roman"/>
            </a:endParaRPr>
          </a:p>
        </p:txBody>
      </p:sp>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4B6F-BED9-46FC-A641-A83188C37B62}"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ffff"/>
                </a:solidFill>
                <a:latin typeface="Tahoma"/>
              </a:rPr>
              <a:t>Guiding Principles</a:t>
            </a:r>
            <a:endParaRPr b="0" lang="en-US" sz="4400" spc="-1" strike="noStrike">
              <a:solidFill>
                <a:srgbClr val="ccffff"/>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Integrity in relationship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Quality atmosphere and etho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Equality</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Fair Play</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mpetition</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de of Conduct for young people</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Guidelines for Parent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Guidelines for IWS member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de of conduct for IWS member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Complaints and Appeals Procedure</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ruitment and selection Polic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0T22:08:37Z</dcterms:created>
  <dc:creator>Michael Murphy</dc:creator>
  <dc:description/>
  <dc:language>en-US</dc:language>
  <cp:lastModifiedBy>Anne</cp:lastModifiedBy>
  <dcterms:modified xsi:type="dcterms:W3CDTF">2013-08-15T11:05:03Z</dcterms:modified>
  <cp:revision>27</cp:revision>
  <dc:subject>Child Protection</dc:subject>
  <dc:title>Code of Ethics</dc:title>
</cp:coreProperties>
</file>