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C1CA-38AF-49A2-842F-F2BD8ED47A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D82D-A7BA-48DF-8E1A-7C0DC5C30AA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6883-8F71-43E8-8063-33CA44FBAD0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77B4-2771-47D4-9565-3A7A899DC30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F525-E489-48BE-9611-AABC9CBB462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0ED2-AB5D-4838-8437-5D9D28AFBDA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16EA-6D7A-4177-A436-7BCBDAB349F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DE44-912C-4FC8-B567-1E5C9A41B35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69E2-7470-4EE1-B90F-5696F57E848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AC6B-124A-4E20-B067-BCF7DEFF9AD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5340-4D57-49E5-94C1-7C3F9E11B91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7C4A-6AB9-460D-A265-BC42077AC92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C33E-F388-4CD7-B2EF-C2EC762D629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4C0D-561C-481C-87C7-9363E99C919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DB0E-DBAC-4556-9C7F-918DE593EA0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E3E1-CC83-4AA5-9FF9-263D8C51CE3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995C-DF5B-495B-8332-23E34757133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BF12-97AF-45A2-AB40-4E413899B15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477C-E843-48DB-8D9B-F0E35F969EA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AEFB-90F0-46CD-82C8-D787B904ED0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CDDB-5344-49A3-B1F4-7D9B1886E56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2EC0-AA91-474E-B08C-929893DD199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714F-54B2-4A7A-97B7-857C7864399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7FC5-705A-4B3D-9260-3A95020EAEA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3BFD-E12D-4085-9B4C-9EE2CF728A3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C1E2-E02A-45B6-A7F6-2E214CCE730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D710-297E-466A-B433-253F2C72A9E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98F5-7429-4BB4-9A2F-0C38B81A53F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A540-4384-4C0F-A996-AED0E105317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D908D-AE8C-4A0E-BC9D-BA567A8A3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344B-036A-4DDF-AB4B-0208BE891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6903A-C1C5-4B90-91FA-C41B8C468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8D52F-05CF-4E08-A82C-2C1973FD0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12444-2270-4151-83F2-0EC4BDD78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82A9E-2E11-4C6C-939A-0FD144F6A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66B51-8267-405B-9884-5AB0C5F68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616EB-068C-4916-B32F-DA56E807F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044B8-29D3-4038-805F-DC5F92A79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3A94C-0BA2-4148-BA51-9D59BCEC0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AD3F2-CBD4-4C49-A4D0-DB2B3C423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E58B-FCCA-4ACF-ABC4-05CB2271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E7C62-29D4-4E3E-9376-27F3CFC90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B80F0-6C30-4B35-9D7A-8B3B5D2C5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6A4D4-857E-4341-8DF6-E2C62D19E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5E690-E87A-42AE-A1DB-461E22B57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66F90-FD92-42DF-B7C6-B518D1F0D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43AD-4AC6-4D31-8F22-CDB7C263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45C6-73C5-47F8-B369-1DA22F28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71A4-FE21-4F13-AD89-F7367461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6031-9480-4A11-A458-831333EE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16A2-6B12-4007-AED8-A4A1AF39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5A1D-BC22-4BEF-AE22-0BD8674D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62F9-1BB7-4DD2-A512-5C1974B86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ucation Commission IW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CCC0-8D8B-4518-AB7E-9CA3947178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 name="Picture 7" descr="IWS Logo General use Colour.jpg"/>
          <p:cNvPicPr/>
          <p:nvPr/>
        </p:nvPicPr>
        <p:blipFill>
          <a:blip r:embed="rId3"/>
          <a:stretch/>
        </p:blipFill>
        <p:spPr>
          <a:xfrm>
            <a:off x="0" y="0"/>
            <a:ext cx="15048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5351-449F-4688-BEA6-7B9D3B95D498}"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3276720" y="6248520"/>
            <a:ext cx="338292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 – Issued 2012</a:t>
            </a:r>
            <a:endParaRPr b="0" lang="en-US" sz="1400" spc="-1" strike="noStrike">
              <a:solidFill>
                <a:srgbClr val="ffffff"/>
              </a:solidFill>
              <a:latin typeface="Times New Roman"/>
            </a:endParaRPr>
          </a:p>
        </p:txBody>
      </p:sp>
      <p:sp>
        <p:nvSpPr>
          <p:cNvPr id="94"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17E8-D1DB-4C47-B7AB-7F9BF3D1E09A}"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5076360" y="181440"/>
            <a:ext cx="3738600" cy="5119200"/>
          </a:xfrm>
          <a:prstGeom prst="rect">
            <a:avLst/>
          </a:prstGeom>
          <a:noFill/>
          <a:ln w="0">
            <a:noFill/>
          </a:ln>
          <a:effectLst>
            <a:outerShdw dist="36147" dir="2700000" blurRad="0" rotWithShape="0">
              <a:srgbClr val="80808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600" spc="-1" strike="noStrike">
                <a:solidFill>
                  <a:srgbClr val="99ccff"/>
                </a:solidFill>
                <a:latin typeface="Arial"/>
              </a:rPr>
              <a:t>Code of Ethics A</a:t>
            </a:r>
            <a:r>
              <a:rPr b="1" i="1" lang="en-IE" sz="6600" spc="-1" strike="noStrike">
                <a:solidFill>
                  <a:srgbClr val="99ccff"/>
                </a:solidFill>
                <a:latin typeface="Arial"/>
              </a:rPr>
              <a:t>nd Good Practice</a:t>
            </a:r>
            <a:endParaRPr b="0" lang="en-US" sz="6600" spc="-1" strike="noStrike">
              <a:solidFill>
                <a:srgbClr val="ccffff"/>
              </a:solidFill>
              <a:latin typeface="Tahoma"/>
            </a:endParaRPr>
          </a:p>
        </p:txBody>
      </p:sp>
      <p:sp>
        <p:nvSpPr>
          <p:cNvPr id="96" name="PlaceHolder 2"/>
          <p:cNvSpPr>
            <a:spLocks noGrp="1"/>
          </p:cNvSpPr>
          <p:nvPr>
            <p:ph type="subTitle"/>
          </p:nvPr>
        </p:nvSpPr>
        <p:spPr>
          <a:xfrm>
            <a:off x="755640" y="4941720"/>
            <a:ext cx="6872400" cy="865440"/>
          </a:xfrm>
          <a:prstGeom prst="rect">
            <a:avLst/>
          </a:prstGeom>
          <a:noFill/>
          <a:ln w="0">
            <a:noFill/>
          </a:ln>
          <a:effectLst>
            <a:outerShdw dist="36147" dir="2700000" blurRad="0" rotWithShape="0">
              <a:srgbClr val="808080">
                <a:alpha val="50000"/>
              </a:srgbClr>
            </a:outerShdw>
          </a:effectLst>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Picture 6" descr="IWS Logo General use Colour.jpg"/>
          <p:cNvPicPr/>
          <p:nvPr/>
        </p:nvPicPr>
        <p:blipFill>
          <a:blip r:embed="rId1"/>
          <a:stretch/>
        </p:blipFill>
        <p:spPr>
          <a:xfrm>
            <a:off x="324000" y="692280"/>
            <a:ext cx="4464000" cy="446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F66B-3B9C-4773-9FB0-7FD10349625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tered by choi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en, Positive and Encourag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ually agreed goa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ectful of children’s right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 ethical code of conduct</a:t>
            </a:r>
            <a:endParaRPr b="0" lang="en-US" sz="3200" spc="-1" strike="noStrike">
              <a:solidFill>
                <a:srgbClr val="ffffff"/>
              </a:solidFill>
              <a:latin typeface="Tahoma"/>
            </a:endParaRPr>
          </a:p>
        </p:txBody>
      </p:sp>
      <p:sp>
        <p:nvSpPr>
          <p:cNvPr id="135" name="PlaceHolder 2"/>
          <p:cNvSpPr>
            <a:spLocks noGrp="1"/>
          </p:cNvSpPr>
          <p:nvPr>
            <p:ph type="title"/>
          </p:nvPr>
        </p:nvSpPr>
        <p:spPr>
          <a:xfrm>
            <a:off x="1692360" y="456840"/>
            <a:ext cx="6308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Adult Child Relationships in Sport</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65F8-A94F-4AAA-AC37-35678312A1D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dult Child Relationships in Sport</a:t>
            </a: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tection of childr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ree from all types of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velopmental stages of chil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joyment and Progre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overned by Code of Eth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9B82-E639-47CF-B566-0FB1E0A4062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2410920" y="456840"/>
            <a:ext cx="5589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Quality Leadership</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ducation and Trai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mplementation of Code</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pecific Education in Child Prote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lection and Scree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petent and Qualified</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itive , Enthusiastic , Cheerful</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inciples of Fair Pla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ti-Bullying Policy</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77A9-E6A4-4440-AC8E-CC768E70E66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2195640" y="456840"/>
            <a:ext cx="5805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ood Practice</a:t>
            </a:r>
            <a:endParaRPr b="0" lang="en-US" sz="44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cruitment and Selection Policy</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eparation and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uidelines on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haviour of Leader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lanced approach to winning</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on away trip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in changing room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scipline-Breaches and Appeal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hotographic and Filming Equipment</a:t>
            </a: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981A-16A5-4306-8FE7-C2AFAE53A66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hild Protection</a:t>
            </a:r>
            <a:endParaRPr b="0" lang="en-US" sz="44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bility to recognise child abuse depends as much on a persons willingness to accept the possibility as it does on their knowledge and inform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460F-26E9-4FB9-9504-868D8A6C1A8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Disclosures</a:t>
            </a:r>
            <a:endParaRPr b="0" lang="en-US" sz="4400" spc="-1" strike="noStrike">
              <a:solidFill>
                <a:srgbClr val="ccffff"/>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member that he/she is being abused</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third party who in turn tells the member</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may overhear other young people discussing their concerns about a particular person</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tnesses abuse</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 or report is made to the member</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8481-F4F8-4F5C-8799-CF67EA11EBA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ypes of Abuse</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eglect; omission-different deprivations-among them safe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motional Abuse; need for affection, approval, consistency and secur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 Ab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E801-1B98-4C72-BDAA-0BFC74B0708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Neglect</a:t>
            </a:r>
            <a:endParaRPr b="0" lang="en-US" sz="4400" spc="-1" strike="noStrike">
              <a:solidFill>
                <a:srgbClr val="ccffff"/>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ffers harm or impairment of developmen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prived of food, warmth, clothing, hygiene, intellectual stimulation,supervision and safety, affection from adults or medical car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ll treatment or impairment of healt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9DFB-147E-4B2F-9E88-4905161D98D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motional Abuse</a:t>
            </a:r>
            <a:endParaRPr b="0" lang="en-US" sz="4400" spc="-1" strike="noStrike">
              <a:solidFill>
                <a:srgbClr val="ccffff"/>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istent criticism, sarcasm, hostility or blaming, over-harsh disciplinary measures or exposure to violen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busive interactions become typical of the relationship</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BCAE-2085-4D64-B52C-CF3960462CD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hysical and Sexual Abuse</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child is used by another person for his or her gratification or sexual arousal or that of other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non-accidental injury that causes significant harm to a chi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ffffff"/>
              </a:solidFill>
              <a:latin typeface="Times New Roman"/>
            </a:endParaRPr>
          </a:p>
        </p:txBody>
      </p:sp>
      <p:sp>
        <p:nvSpPr>
          <p:cNvPr id="99"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B819-AA48-4B7A-90F0-7A793A7CACB4}"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subTitle"/>
          </p:nvPr>
        </p:nvSpPr>
        <p:spPr>
          <a:xfrm>
            <a:off x="3564000" y="692280"/>
            <a:ext cx="5184720" cy="424944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National Guidelines for the Protection and Welfare of Children</a:t>
            </a: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Issued by Dept. Health &amp; Children 2011</a:t>
            </a:r>
            <a:endParaRPr b="0" lang="en-US" sz="3600" spc="-1" strike="noStrike">
              <a:solidFill>
                <a:srgbClr val="ffffff"/>
              </a:solidFill>
              <a:latin typeface="Tahoma"/>
            </a:endParaRPr>
          </a:p>
        </p:txBody>
      </p:sp>
      <p:pic>
        <p:nvPicPr>
          <p:cNvPr id="101" name="Picture 4" descr="CF cover1"/>
          <p:cNvPicPr/>
          <p:nvPr/>
        </p:nvPicPr>
        <p:blipFill>
          <a:blip r:embed="rId1"/>
          <a:stretch/>
        </p:blipFill>
        <p:spPr>
          <a:xfrm>
            <a:off x="324000" y="836640"/>
            <a:ext cx="3176280" cy="4105080"/>
          </a:xfrm>
          <a:prstGeom prst="rect">
            <a:avLst/>
          </a:prstGeom>
          <a:ln w="0">
            <a:noFill/>
          </a:ln>
          <a:effectLst>
            <a:outerShdw dist="17819" dir="2700000" blurRad="0" rotWithShape="0">
              <a:srgbClr val="000066"/>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BA92-60D5-4722-B401-748F66F3A5D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for Recognition</a:t>
            </a: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ree stages of recogni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Considering the Possibil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2 Looking for sig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Recording of Informa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 signs are more indicative than ot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4098-06CC-45B9-8542-165536C64E0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porting</a:t>
            </a:r>
            <a:endParaRPr b="0" lang="en-US" sz="4400" spc="-1" strike="noStrike">
              <a:solidFill>
                <a:srgbClr val="ccffff"/>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afety of the young person must take priorit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ports must be made without dela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hildren or parents should not be interviewed in detail</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o undertakings of secrecy can be given</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iving information for the protection of the child is not a breach of confidentiality</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2C36-E80F-4EF6-9275-EB1C1328ECF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1979640" y="456840"/>
            <a:ext cx="6021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 member receives an allegation or suspects a child is being abused, the member reports the matter to the Senior Colleagu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enior Colleague must advise the </a:t>
            </a:r>
            <a:r>
              <a:rPr b="0" lang="en-IE" sz="3200" spc="-1" strike="noStrike">
                <a:solidFill>
                  <a:srgbClr val="ffffff"/>
                </a:solidFill>
                <a:latin typeface="Tahoma"/>
              </a:rPr>
              <a:t>Designated</a:t>
            </a:r>
            <a:r>
              <a:rPr b="0" lang="en-GB" sz="3200" spc="-1" strike="noStrike">
                <a:solidFill>
                  <a:srgbClr val="ffffff"/>
                </a:solidFill>
                <a:latin typeface="Tahoma"/>
              </a:rPr>
              <a:t> Liaison </a:t>
            </a:r>
            <a:r>
              <a:rPr b="0" lang="en-IE" sz="3200" spc="-1" strike="noStrike">
                <a:solidFill>
                  <a:srgbClr val="ffffff"/>
                </a:solidFill>
                <a:latin typeface="Tahoma"/>
              </a:rPr>
              <a:t>Person</a:t>
            </a:r>
            <a:r>
              <a:rPr b="0" lang="en-GB" sz="3200" spc="-1" strike="noStrike">
                <a:solidFill>
                  <a:srgbClr val="ffffff"/>
                </a:solidFill>
                <a:latin typeface="Tahoma"/>
              </a:rPr>
              <a:t>. The </a:t>
            </a:r>
            <a:r>
              <a:rPr b="0" lang="en-IE" sz="3200" spc="-1" strike="noStrike">
                <a:solidFill>
                  <a:srgbClr val="ffffff"/>
                </a:solidFill>
                <a:latin typeface="Tahoma"/>
              </a:rPr>
              <a:t>DLP</a:t>
            </a:r>
            <a:r>
              <a:rPr b="0" lang="en-GB" sz="3200" spc="-1" strike="noStrike">
                <a:solidFill>
                  <a:srgbClr val="ffffff"/>
                </a:solidFill>
                <a:latin typeface="Tahoma"/>
              </a:rPr>
              <a:t> will be an officer of the area committe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ation must be recorded by the </a:t>
            </a:r>
            <a:r>
              <a:rPr b="0" lang="en-IE" sz="3200" spc="-1" strike="noStrike">
                <a:solidFill>
                  <a:srgbClr val="ffffff"/>
                </a:solidFill>
                <a:latin typeface="Tahoma"/>
              </a:rPr>
              <a:t>DL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F603-3588-46A6-9AC3-B686D57F438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essential that the matter be treated in the strictest confidence and not discussed except among the parties involve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role of the Senior Colleague is</a:t>
            </a:r>
            <a:r>
              <a:rPr b="0" lang="en-GB" sz="2800" spc="-1" strike="noStrike" u="sng">
                <a:solidFill>
                  <a:srgbClr val="ffffff"/>
                </a:solidFill>
                <a:uFillTx/>
                <a:latin typeface="Tahoma"/>
              </a:rPr>
              <a:t> not </a:t>
            </a:r>
            <a:r>
              <a:rPr b="0" lang="en-GB" sz="2800" spc="-1" strike="noStrike">
                <a:solidFill>
                  <a:srgbClr val="ffffff"/>
                </a:solidFill>
                <a:latin typeface="Tahoma"/>
              </a:rPr>
              <a:t>to make enquiries of the parents or to take over the role of the Health Boar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EO of IWS should be informed and briefed by the officers on the Area committ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6234-8FBF-434C-9CF8-3066BAEAA71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spension of the member will only be done after meeting of Area Officers,CEO and the National </a:t>
            </a:r>
            <a:r>
              <a:rPr b="0" lang="en-IE" sz="2800" spc="-1" strike="noStrike">
                <a:solidFill>
                  <a:srgbClr val="ffffff"/>
                </a:solidFill>
                <a:latin typeface="Tahoma"/>
              </a:rPr>
              <a:t>DLP</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be informed in writing of his/her suspension</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meet the Officers and made aware of allegation against him/her</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son should be informed that this is not an accusation and the procedures being undertaken are in accordance with statutory  guidelin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BCC5-ABF0-4976-8497-D5804CFAB41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 present a formal response to allegations</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me of child and precise details of abuse will be with held</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c.4.7 of the Rules and Regulations of Area Water Safety Committees shall govern termination of membership</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must be reported to the Health Board or the Garda Sioch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8892-DCD0-4647-815A-67B1749F42E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llegations of Abuse Against Volunteers</a:t>
            </a:r>
            <a:endParaRPr b="0" lang="en-US" sz="4400" spc="-1" strike="noStrike">
              <a:solidFill>
                <a:srgbClr val="ccffff"/>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wo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The reporting procedure in respect of the child</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2 The procedure for dealing with the person.</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rimary goal is to protect the child while taking care to treat the adult fairly</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members must be aware of line management reporting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should be assessed promptly and carefully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9771-DD51-431C-9B89-0D5C80B330C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ff"/>
                </a:solidFill>
                <a:latin typeface="Tahoma"/>
              </a:rPr>
              <a:t>Protections for persons Reporting Child Abuse Act 1998</a:t>
            </a:r>
            <a:endParaRPr b="0" lang="en-US" sz="28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vision of immunity from civil liability to any person who reports child abuse “reasonably and in good faith” to designated officers of the Health boards of Gardai</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eation of a new offence of false repor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D297-98D5-4C21-AF1F-5E6DE56A0F9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618920" y="456840"/>
            <a:ext cx="638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tections</a:t>
            </a:r>
            <a:endParaRPr b="0" lang="en-US" sz="4400" spc="-1" strike="noStrike">
              <a:solidFill>
                <a:srgbClr val="ccffff"/>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on reporting not liable in damages   for reporting in his opinion that a child has been or is being assaulted, ill treated, neglected or sexually abus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hild’s health, development or welfare has been or is being avoidably impaired or neglec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BA56-18E7-48A3-A361-4F022643DC0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 to a child Reporting Abuse</a:t>
            </a:r>
            <a:endParaRPr b="0" lang="en-US" sz="4400" spc="-1" strike="noStrike">
              <a:solidFill>
                <a:srgbClr val="ccffff"/>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al with accusation in sensitive competent way-let child tell story</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 calm and compassiona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perience of telling should be positive on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n judgmental</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assured right to tell--no false promis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questioned-no leading questio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iven indication of what is happening nex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57A2-D83A-487A-ADFB-BB63FB558A3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4" name="Picture 2" descr="FontCover"/>
          <p:cNvPicPr/>
          <p:nvPr/>
        </p:nvPicPr>
        <p:blipFill>
          <a:blip r:embed="rId1"/>
          <a:stretch/>
        </p:blipFill>
        <p:spPr>
          <a:xfrm>
            <a:off x="2195640" y="1557360"/>
            <a:ext cx="4456080" cy="5300640"/>
          </a:xfrm>
          <a:prstGeom prst="rect">
            <a:avLst/>
          </a:prstGeom>
          <a:ln w="76320">
            <a:solidFill>
              <a:srgbClr val="000000"/>
            </a:solidFill>
            <a:miter/>
          </a:ln>
        </p:spPr>
      </p:pic>
      <p:pic>
        <p:nvPicPr>
          <p:cNvPr id="105" name="Picture 3" descr="isclogo"/>
          <p:cNvPicPr/>
          <p:nvPr/>
        </p:nvPicPr>
        <p:blipFill>
          <a:blip r:embed="rId2"/>
          <a:stretch/>
        </p:blipFill>
        <p:spPr>
          <a:xfrm>
            <a:off x="5508720" y="4653000"/>
            <a:ext cx="930240" cy="1008000"/>
          </a:xfrm>
          <a:prstGeom prst="rect">
            <a:avLst/>
          </a:prstGeom>
          <a:ln w="0">
            <a:noFill/>
          </a:ln>
        </p:spPr>
      </p:pic>
      <p:pic>
        <p:nvPicPr>
          <p:cNvPr id="106" name="Picture 4" descr="http://www.sportni.org/images/scnismall2.jpg"/>
          <p:cNvPicPr/>
          <p:nvPr/>
        </p:nvPicPr>
        <p:blipFill>
          <a:blip r:embed="rId3"/>
          <a:stretch/>
        </p:blipFill>
        <p:spPr>
          <a:xfrm>
            <a:off x="2556000" y="5157720"/>
            <a:ext cx="792000" cy="644760"/>
          </a:xfrm>
          <a:prstGeom prst="rect">
            <a:avLst/>
          </a:prstGeom>
          <a:ln w="0">
            <a:noFill/>
          </a:ln>
        </p:spPr>
      </p:pic>
      <p:sp>
        <p:nvSpPr>
          <p:cNvPr id="107" name="PlaceHolder 1"/>
          <p:cNvSpPr>
            <a:spLocks noGrp="1"/>
          </p:cNvSpPr>
          <p:nvPr>
            <p:ph type="title"/>
          </p:nvPr>
        </p:nvSpPr>
        <p:spPr>
          <a:xfrm>
            <a:off x="1834920" y="456840"/>
            <a:ext cx="616572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ffff"/>
                </a:solidFill>
                <a:latin typeface="Tahoma"/>
              </a:rPr>
              <a:t>The Irish Sports Council Guidelines</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DBB9-F006-451F-BF21-7AF483E5A68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a:t>
            </a:r>
            <a:endParaRPr b="0" lang="en-US" sz="4400" spc="-1" strike="noStrike">
              <a:solidFill>
                <a:srgbClr val="ccffff"/>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what child said should be writt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the steps must also be kep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ents informed if appropri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0969-51F1-4576-A397-36A06EB3F97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2050920" y="456840"/>
            <a:ext cx="5950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ommon Difficulties</a:t>
            </a:r>
            <a:endParaRPr b="0" lang="en-US" sz="4400" spc="-1" strike="noStrike">
              <a:solidFill>
                <a:srgbClr val="ccffff"/>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then withdraw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secrecy is expected</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may threaten suicide if report is passed o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will often seek to protect his/her abus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11F3-A1A3-4BE1-A8FF-0EA07CEF1CF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Summary of Response</a:t>
            </a:r>
            <a:endParaRPr b="0" lang="en-US" sz="4400" spc="-1" strike="noStrike">
              <a:solidFill>
                <a:srgbClr val="ccffff"/>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mber to Supervising Instructo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pervising Instructor to </a:t>
            </a:r>
            <a:r>
              <a:rPr b="0" lang="en-IE" sz="3200" spc="-1" strike="noStrike">
                <a:solidFill>
                  <a:srgbClr val="ffffff"/>
                </a:solidFill>
                <a:latin typeface="Tahoma"/>
              </a:rPr>
              <a:t>DLP</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DLP</a:t>
            </a:r>
            <a:r>
              <a:rPr b="0" lang="en-GB" sz="3200" spc="-1" strike="noStrike">
                <a:solidFill>
                  <a:srgbClr val="ffffff"/>
                </a:solidFill>
                <a:latin typeface="Tahoma"/>
              </a:rPr>
              <a:t> to Area Officers and National </a:t>
            </a:r>
            <a:r>
              <a:rPr b="0" lang="en-IE" sz="3200" spc="-1" strike="noStrike">
                <a:solidFill>
                  <a:srgbClr val="ffffff"/>
                </a:solidFill>
                <a:latin typeface="Tahoma"/>
              </a:rPr>
              <a:t>DLP</a:t>
            </a:r>
            <a:r>
              <a:rPr b="0" lang="en-GB" sz="3200" spc="-1" strike="noStrike">
                <a:solidFill>
                  <a:srgbClr val="ffffff"/>
                </a:solidFill>
                <a:latin typeface="Tahoma"/>
              </a:rPr>
              <a:t> and C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O to Health Board and Alleged Abuse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ed Abuser meets CEO and Area Officer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18F4-6920-421A-AE62-16434519993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6" name="Rectangle 2"/>
          <p:cNvSpPr/>
          <p:nvPr/>
        </p:nvSpPr>
        <p:spPr>
          <a:xfrm>
            <a:off x="0" y="476280"/>
            <a:ext cx="9144000" cy="13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66"/>
                </a:solidFill>
                <a:latin typeface="Verdana"/>
                <a:ea typeface="Times New Roman"/>
              </a:rPr>
              <a:t>                   </a:t>
            </a:r>
            <a:r>
              <a:rPr b="1" lang="en-GB" sz="2700" spc="-1" strike="noStrike">
                <a:solidFill>
                  <a:srgbClr val="ff0066"/>
                </a:solidFill>
                <a:latin typeface="Verdana"/>
                <a:ea typeface="Times New Roman"/>
              </a:rPr>
              <a:t>Reporting Chain</a:t>
            </a:r>
            <a:endParaRPr b="0" lang="en-US" sz="2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80"/>
                </a:solidFill>
                <a:uFillTx/>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227" name="Object 4"/>
          <p:cNvGraphicFramePr/>
          <p:nvPr/>
        </p:nvGraphicFramePr>
        <p:xfrm>
          <a:off x="1692360" y="1557360"/>
          <a:ext cx="5914800" cy="4514760"/>
        </p:xfrm>
        <a:graphic>
          <a:graphicData uri="http://schemas.openxmlformats.org/presentationml/2006/ole">
            <p:oleObj r:id="rId1" spid="">
              <p:embed/>
              <p:pic>
                <p:nvPicPr>
                  <p:cNvPr id="228" name="Object 4" descr=""/>
                  <p:cNvPicPr/>
                  <p:nvPr/>
                </p:nvPicPr>
                <p:blipFill>
                  <a:blip r:embed="rId2"/>
                  <a:stretch/>
                </p:blipFill>
                <p:spPr>
                  <a:xfrm>
                    <a:off x="1692360" y="1557360"/>
                    <a:ext cx="59148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22A4-322A-4A3D-92A4-26A55F7C4F1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Designated Liaison Person</a:t>
            </a:r>
            <a:endParaRPr b="0" lang="en-US" sz="4400" spc="-1" strike="noStrike">
              <a:solidFill>
                <a:srgbClr val="ccffff"/>
              </a:solidFill>
              <a:latin typeface="Tahoma"/>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mote awareness of Code of Ethic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influence policy and practi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facilitate communic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vide an accessible resour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act as an adviso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duct research</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hould receive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4B25-64A7-4E38-99A3-C8A3B2C8916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1547280" y="456840"/>
            <a:ext cx="7272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Key Legislative Provisions</a:t>
            </a:r>
            <a:endParaRPr b="0" lang="en-US" sz="4400" spc="-1" strike="noStrike">
              <a:solidFill>
                <a:srgbClr val="ccffff"/>
              </a:solidFill>
              <a:latin typeface="Tahoma"/>
            </a:endParaRPr>
          </a:p>
        </p:txBody>
      </p:sp>
      <p:sp>
        <p:nvSpPr>
          <p:cNvPr id="111" name="PlaceHolder 2"/>
          <p:cNvSpPr>
            <a:spLocks noGrp="1"/>
          </p:cNvSpPr>
          <p:nvPr>
            <p:ph/>
          </p:nvPr>
        </p:nvSpPr>
        <p:spPr>
          <a:xfrm>
            <a:off x="250920" y="2060640"/>
            <a:ext cx="8353440" cy="4114800"/>
          </a:xfrm>
          <a:prstGeom prst="rect">
            <a:avLst/>
          </a:prstGeom>
          <a:noFill/>
          <a:ln w="0">
            <a:noFill/>
          </a:ln>
        </p:spPr>
        <p:txBody>
          <a:bodyPr anchor="t">
            <a:normAutofit fontScale="92000"/>
          </a:bodyPr>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ren Act 200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 Care Act 199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iminal Justice Act 200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omestic Violence Act 199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otection for Persons Reporting Child Abust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ata Protection Acts 1988 and 2003</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Welfare) Act 2000</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on-Fatal Offences against the Person Act 1997</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reedom of Information Acts 1997 and 2003</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8D07-CAA7-43F3-83D5-CC3A0867EE5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2123640" y="456840"/>
            <a:ext cx="5877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organisations, whether statutory or voluntary, have an overall corporate responsibility to safeguard childre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welfare of the child is the first and paramount consider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rganisations may be legally responsible for their failure to provide adequate care and safeguards for childr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5504-57D1-4D33-B45A-14F2396D2A5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2</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afe and clearly defined methods of selecting staff and volunteer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ffective procedures for the reporting and management of child protection concer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signated staff member /volunteer to act as a liaison with outside agencies and as a resource person to any volunteer who has child protection concer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15B6-0D23-4FD1-A7BB-CC66EACA830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2268360" y="456840"/>
            <a:ext cx="57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urpose of Guidelines</a:t>
            </a:r>
            <a:endParaRPr b="0" lang="en-US" sz="4400" spc="-1" strike="noStrike">
              <a:solidFill>
                <a:srgbClr val="ccffff"/>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vide members with basic information on the nature of child abus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form members on the procedures they should follow</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ise members’ awareness of the necessity for good practice so as to help to ensure the protection of young people from abuse and protection of members against false accusations of abu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DAB1-A8B0-4E47-A5D7-9DD0C37FCC6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Core Values For IWS members</a:t>
            </a:r>
            <a:endParaRPr b="0" lang="en-US" sz="4400" spc="-1" strike="noStrike">
              <a:solidFill>
                <a:srgbClr val="ccffff"/>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Quality of Instru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mmit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ntinual Professional Develop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Equality and Inclus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egialit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abora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Respec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are and Co-Oper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1447-251E-4A41-A8DE-6FDF36D2BAE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Guiding Principles</a:t>
            </a:r>
            <a:endParaRPr b="0" lang="en-US" sz="4400" spc="-1" strike="noStrike">
              <a:solidFill>
                <a:srgbClr val="ccffff"/>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Integrity in relationship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Quality atmosphere and etho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Equalit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Fair Pla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etition</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young peopl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Parent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laints and Appeals Procedur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ruitment and selection Polic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22:08:37Z</dcterms:created>
  <dc:creator>Michael Murphy</dc:creator>
  <dc:description/>
  <dc:language>en-US</dc:language>
  <cp:lastModifiedBy>Anne</cp:lastModifiedBy>
  <dcterms:modified xsi:type="dcterms:W3CDTF">2013-08-15T11:05:03Z</dcterms:modified>
  <cp:revision>27</cp:revision>
  <dc:subject>Child Protection</dc:subject>
  <dc:title>Code of Ethics</dc:title>
</cp:coreProperties>
</file>